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25.gif" ContentType="image/gif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41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14.png" ContentType="image/png"/>
  <Override PartName="/ppt/media/image10.jpeg" ContentType="image/jpeg"/>
  <Override PartName="/ppt/media/image30.jpeg" ContentType="image/jpeg"/>
  <Override PartName="/ppt/media/image38.jpeg" ContentType="image/jpeg"/>
  <Override PartName="/ppt/media/image40.jpeg" ContentType="image/jpeg"/>
  <Override PartName="/ppt/media/image5.png" ContentType="image/png"/>
  <Override PartName="/ppt/media/image35.png" ContentType="image/png"/>
  <Override PartName="/ppt/media/image42.gif" ContentType="image/gif"/>
  <Override PartName="/ppt/media/image20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FEE2-1501-417B-B26A-AC2D6E11B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B5F3-B222-4CC4-BC1B-4BD39E48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D008C-4117-4A96-9F65-104F4DAC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4D3A07-8402-405C-9AD6-724A211E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70BC18-FE79-4DBF-8029-C8E52EC4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58542B-F360-4708-ABA4-56929979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C816AD-769A-458E-BB37-7EABE286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A071E7-BC5C-4454-B3FF-8FF28215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689419-71E9-4579-AA6E-3A24D9AC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F90DDF-BDF7-4D5D-BCB8-A57AE72A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E5959E-6E3C-4791-83D3-651652FACB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3C16A-F9F2-43BE-BBEE-6831E0B32A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807B-C190-4014-B54E-77F35D14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C84E3-6995-4E5F-B0AB-25E4FF53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2643C-BEEE-4D65-9104-53E61EF9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66FB7-ABEB-4FA5-AFB4-C8EA8917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1AA5C-45E6-4C71-9696-40B21AE7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0B443-3DD1-4CF8-9AE7-2787BD7C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80DF0-2A48-4B90-B430-31935CBC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744F2-E230-44EE-AED5-7408F766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07215-E0C8-4D57-8C8E-03F065B5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A68FB-8A3A-4475-86F1-ECC7E00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451BA-B515-420B-9259-C1C19470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11A0A-D4D8-44BD-8B39-96938B706D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D8C2C-C9DA-405C-80BE-E74331C7F8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40385-FE49-4216-BFE1-E9FB15EFBB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55E8F3-0E0A-49D8-80E0-A5522F9F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A75D8D-96ED-4BCE-86FB-D26C8F0C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F97F68-AB58-4C7C-90FD-20DFC7D6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9A4BCB-9E6B-4C7E-893B-8060E594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C8D3C3-F0AD-447F-B06D-3776A62D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C19606-C5A0-4CFB-BD17-2D283053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C451A3-4522-4CD6-9230-84139389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F89AD5-7CA6-4ED6-AEE5-EE9E1861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74EDE-3A90-46B4-9E2A-DA600DF5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90B59F-BF8C-4CB7-BDBA-08150CF9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E5C17B-4A2A-4A3F-87E8-4BE6DA1A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33A94D-3A37-45BC-B32B-45A94949EC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078BB-9498-4665-AC1D-9A42875F5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B2419-767A-41B8-BDC8-D08F20F8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F5665-351D-4310-AD4E-196F8382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A9D60-0261-4381-BCDA-E4C9CBDC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E4C93-C22F-41D5-8537-7F9DC2CC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F0950-3C97-4B3D-8037-568DA225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02D96-D73D-4E92-A560-AD0FDC5F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484B0-DEAC-4A15-B20F-79530BF7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14BC0-C269-4797-8CE4-4D34200D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C9CED-CC43-4EF8-AF77-2A7197EC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8FA67-6978-4F78-B7D6-D528D2C6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79C01-A089-4C33-AB89-9C84978E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5485F-65C1-42FB-B174-2182125FB8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10266-A75E-4A8B-8A23-1D5185850B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22E1B-311C-4FA1-B5BC-6FFB1AC9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708E2-4EE5-4559-82A9-E8235749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E2B94-04C0-4CF5-83AA-AB766BDD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E1A5C-0450-4928-96B8-177F38AA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2C19F-E279-4051-9051-319A808C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3C180-CB80-4C36-97EC-563B7DBD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DA33B-34B8-430A-AD98-8B09F2A4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BA3E0-0809-4256-9260-B5D698CC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C5AAD-EA4A-49CD-BFBC-9919B638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B2B3B-C4C7-4463-AF52-8606712C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E8AD5-CC90-4B63-9DF7-6669AA96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0696C-388B-4471-82D4-0731569160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C982A-472C-4DB4-8275-F05312B3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51B23-E58E-48F4-8357-C888FF9F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4B0D9-402C-40A7-9A3D-73006C62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E2371-3FF9-4A00-94BC-5B7F8729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E325F-E0D3-4986-93FF-57BF5E54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57E13-5AD2-4605-9D00-54BF329E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FDF2C-B438-402E-A7D0-FDDDF9D0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D6A5D-5D69-4AC6-9E68-F5595AB9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7ED7F-2A24-4DAF-B0D0-5E21DD8F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B439F-AD73-4D13-BCB8-5EE19D9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CC936-8E55-40EC-8041-AC88E7A5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27D50-5A1E-4075-9914-F9BC06F4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37F31-D276-440A-957A-8A267215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C95E5-4040-47DC-BC7C-AE836911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2888E-9F33-4891-B346-B26E0315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D28B5-694A-488D-8908-25A7BF5E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99FBA-79C4-4572-AFDA-B986846B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D97CD-3710-4E1E-BC06-D7DF592B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EB439-9F7C-47BF-A11D-F4BFB0BB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3BC12-A43C-4E9E-9F94-78CC6660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42BDA-B868-4AAB-BA25-F9A92B73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115B3-5F92-41BC-8D69-5348F05A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0DF1B-0A51-4252-B57A-44C8983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26BBB-CD8B-40A7-B0B4-B3D9A86D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7D837-1A1B-424A-8C2E-F1E6D18D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BC5CC-1B6A-4C4E-960B-0518C61E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8163B-1304-492A-8559-8F5A25FA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B796F-258C-4F64-91B4-449793E0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A22DE-9C5C-44D5-A671-E96B8064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A0619-05C1-431C-8DEE-462F181C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EAB0F-6B78-46C5-BDE7-72E1B7E0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1C852-ADFD-4FEF-9FED-0E50D104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F4622-1298-41EA-9B50-DA3ADFCB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E1962-902C-46DD-9C29-4AB9552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58E50-7B00-41B5-AA91-47E4495B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CE062-78E5-4353-85E0-37CF85D4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7A992-0420-43E3-96BC-5319F39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800E4-A27C-484E-9541-9373BB10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BC4D5-986E-45B0-A71F-11532DF0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2B79A-9416-483F-B74B-E03B7772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1A37E-B59B-46EE-B720-C5D22B6B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4EF9D-D94E-42C1-A9DC-7B557608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65AB8-91F3-4719-BEEF-49148430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50AA1-79D8-4E3A-BCBA-5609005D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6E133-DCC3-46B3-A4E2-DD9C89FF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F0E7B-433C-4556-AAED-7EAF730A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F4B4A-6A61-432A-859E-CB0492E5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450D-F58E-431A-87A3-8AAD1B7E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A8D62-88D6-4806-A124-50C90BA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15C70-E914-4C23-98C5-1A12E092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F7C48-B5CE-4D12-9056-328D1EE7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BB729-A26A-4CAB-9CC5-60B1DFEB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78879-CDC0-4106-BCE0-828E9927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1E363-543E-40BC-AFA4-AF75F0EC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182AC-A95D-466E-83AA-8098F3B9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26B50-258C-4F0E-AC76-CCE410AB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DD644-9ADF-478B-B00A-9987A608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29DE6-8B4D-467D-AE96-2C7149D7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CD465F-8C7D-4282-8104-F634642C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3F859-1908-42E0-979A-76DDD684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B8150-EBFC-4DD3-9E60-047B4461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360D3-0C04-494C-A2F2-F4BEB535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E46D0-7889-40E5-9A6E-C5BFFE9D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CD7E0-CC44-4F10-8F0F-CC48A0AA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10CE4-D9DA-4130-9FE3-0CF1CB71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4B599-0BDB-4BF5-AB3A-C116BED2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4D1ED-0819-46A9-8AAD-40C7A74E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0A32B9-2B5A-4394-A6A4-49226D06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61183-92A3-4C94-9A43-FA0A4915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35C14-6358-41B7-A1A8-9AF3EB67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71383-1CA9-4B06-A435-CAB61DAE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A7A88-5C3A-4C2E-9659-9AEBFCC3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4ED32-751E-41E5-B1A6-FD030C3C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8F6DF-5331-4F5D-B080-371CA2DC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3190E4-16F2-4C9A-8EF1-4C85905F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15DEF9-1E8B-4586-B4CC-3380A26C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A8E3C-22D4-473B-AC1E-4B1B3AC5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D6BAA-C71B-4621-AD3C-6B1E8957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7FDC8-A0C1-47F2-98D8-B516FEC6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16A1D-4DCD-4F0B-9388-A3ED1044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B74C4-F573-4121-9B74-B17F90C3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37C62-1078-4262-B2A9-D8129141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73F82-DD42-43BE-B4B0-DE960749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30422-1104-4BE9-B135-D5451370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B9A7C-C63C-467D-8F7C-48E5E3F5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1B943-CA36-4ABB-9DB3-C9F8B911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236D29-C7C8-4B62-A922-317D7BC5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763FB-74B2-45CA-A382-FBC6807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37B76-47D2-4DFC-9DB6-4D2FB7EC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0B3B59-6F8C-49E1-8780-CF3AE4C1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760D5-3562-4262-91FC-F6B43FDB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06CB3-8ABB-4C19-A448-F57EECA4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5B6F4-473B-4690-A363-44623FF1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5FD87-53D4-4085-8318-F03B1F5C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8410E6-F406-49D7-8509-09814501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2F396E-D5CE-4836-A58D-D9D225BA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E847A-4A99-47C5-AA18-A468DCAF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E3EB4-2FFE-4A92-92A6-59323CAF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D28A0-8CC2-4628-875E-EC32EFAA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2D2D5F-A4A5-4B40-97E9-D5E45BDB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2E682-892C-4E31-9056-59DB6ED1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8155FB-C726-4F61-944E-3609E859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D397D-BF5A-47B7-91A7-C96C0A7A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7AE87-DDF4-441D-9BAA-17E99B6540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E3A55-5338-486E-A4CA-40C3C1D4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DF0C1-50A9-419E-B959-B82289F5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3CA93-CDF0-4710-B683-315E5EE1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EB8549-A750-40E7-84D5-798C2AC4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75D6DB-FFC2-4140-9055-E8B05797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743B3-24BA-49A7-8F61-0A651CDD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EDFE9-C1FF-4231-86BA-1F5CCBA0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73767-5CA5-43C2-9782-4D68A618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D2905C-7771-49EB-BBB2-3D4CE4E6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BD356-CE0A-456E-8BAA-9C2C2640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20E0D7-C6D2-4039-9763-29F41401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5D30D-F353-4193-A142-9D003A78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B8A957-0831-44A7-BFF8-F84D3825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2A8BA-0AF1-40F8-BF11-8C112D03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E92C0-1B5D-4BD1-BD07-471BBF4A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E8C0A-C0C6-4142-B820-A4A30674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B1A10-9066-49F8-9416-8A26B50B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B61568-28A6-4AFB-9337-33B64EFC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7FD0A6-1C7C-4297-907F-777DF144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44AE3-0F6C-4AF3-AC12-05A668E5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62C951-8D63-4F7F-8313-470AA757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B08818-2F13-4DEA-B4FD-E4F596E6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E6AC9-A385-4413-BD5E-54B5CD1C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B4FB1-B308-496A-A03A-C901C493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B1D44C-081C-4458-9159-61E08549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EE7FA0-A4B6-4F32-B5B8-05A8FC46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8E9C8-8D59-4CB6-9D48-EABBEB90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0AE43C-12CB-444F-8985-F9D4762C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0C7C44-CC44-423D-BEE3-ECB61638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A9F6D-D43A-4694-8512-486FA7BC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4A590-16C5-4217-823B-1A5C1BF7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5D677-B7F9-456A-9630-C339229A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1B463-0ACE-451B-ABA4-32D07770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C7B86F-2A28-41B1-9A02-47F3477B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0B97D7-3715-442C-935D-BF129194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13DE91-AB93-4FF0-B9ED-9B77761E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0429A-CF5E-40DE-94A1-C58BD159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84100-BE04-4A9D-AB3E-DEC7D10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466FD-0515-4BAC-91FB-EC2D9D20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19653E-752C-4EED-8A7B-D4B4CE80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1848AB-D1A3-4231-96C4-93940745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8A0F5-A438-4E7A-BDFE-F2E97EBE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87DB9-FA63-473C-AC88-59CF53D6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4FA8-93A9-46A2-9818-A1F3D7E5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3404ED-ED97-48F8-9A5C-43C4385F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632EA-67D7-4307-B5BC-B49DD613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B123DC-01B1-4216-9325-75BEBD1D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AA88E1-BBFD-4342-9715-2F7A8852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1DC22-25E4-470D-9A9C-0F6F1CC3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3DD71-72B2-4050-91A6-86FE5FD2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A43C0-A9F7-4D4C-83AD-DC8EC7812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12C3-E99A-4533-9F90-14925A9402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D34C7-16D0-48EF-A79E-391532A0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9079-087B-492C-AA54-DF4BA5A4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3CAF-57D7-4281-98E7-617322E7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84C0-EAA9-4DC8-BBC7-EF3285A9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1C20-E05C-46A5-83CF-115A3BD8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675E0-CB97-455D-B2C0-4F739CFD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90C1-1FEE-4B60-9F82-ECE8F1DC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4AAB-1F91-4340-949D-1EBEBF4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18F63-5C61-4DFB-B235-A054144E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39FC-29D5-4232-A21D-DF11AE2E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8B373-02ED-49B1-8782-C7B96213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2CC3-8317-425A-A8E4-3FFF309C1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CDE32-623B-4246-93DD-2B171FFFEC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B6CC-CC03-40D5-A430-D7A7AA24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10749-DC6D-400D-8609-A8788FFF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3EF59-CFE9-4F8B-9C0F-B2AADA6A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2CB90-3A32-43B3-9144-DFCCE968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F77ED3-E638-4EEE-B3A0-8469EED5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CDE7A-256E-44B6-AAF3-EE6E2688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424F2-EDFA-47DF-8BA1-FF41DA2F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085AED-D5FD-4813-B598-23F95D2F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E088F-43F5-49C9-B3BF-0544F2D8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D841F-07DA-4CD1-938C-A228726D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75179-4120-4846-8C35-7EA45648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5D916-F1ED-483F-A0F2-2ACD340A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FC553-F127-4E33-B470-6354D78C1E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58C4FF-BA23-49AB-904A-46D82A1D63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5AFFA0-C4E9-4A13-A9CA-7C1D3F15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41538-442F-41F3-93B4-10FEBBAA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AE9E93-4F7D-4A48-ACEC-18DE043F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28A472-F755-4D30-8B07-606E1479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C9CAEB-6383-446E-BC84-EFDD7380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791596-76EB-4F9B-A7BF-C23FE46D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546438-00CC-409B-96DB-B2D93D5C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E45C44-71B0-4451-A2B1-D90A83EA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1DCB-D98A-4EB0-87FE-40563473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691415-B9E4-4006-8F51-765004B7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DB284-8C70-49CD-90B7-1C6C8671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299F9A-AB2B-4F9A-B39B-62702A73A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F494A-4714-4EEB-8093-4D1F68DC7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0A2F0-877C-4D8E-BE65-FE2C894D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43E9-82D2-4B78-A306-3B0819C7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B221F-DBBA-4970-AFA9-9375DBC7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BFF48-113D-4D25-AD54-D2A161FD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38039-E140-46A0-8B00-701698A4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EBAFA-3747-44D4-ADCF-BA54A9E6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AA34-A7FC-42E7-97FB-74E17A9D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E2E55-AA71-49B4-BE0F-9FE80A67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56416-7160-48D8-A284-6134907E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F5BF2-C666-4FD9-999E-64543A14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4879-CE76-4A9A-85E2-A5125EC9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6CF1-D332-4740-8D65-F105F02C31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15C5B-80FE-422F-9B01-E1B0B674B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4163B-2871-4C6C-AC1D-2AA0924E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EB7D4-9460-403A-BDC9-187381CD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0C804-4D3F-4770-9A74-6EB04D83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F7736-0E98-43DB-A696-107118AC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1B1E-8472-4D9C-B213-F2372C8A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0C924D-AB81-4FC7-A419-B913D32D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770AB-5470-495D-90BB-E52CF11E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3A077-A035-4AEC-A782-F9D9A2D1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B22135-14A7-49F5-9F4A-E5871630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0BFFC-F555-4109-B01E-24C96812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CCCC6-5153-4152-86F1-3595FA73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5CFB5-CF16-465C-8888-20E5A6E0CB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D7C26E-B958-49A0-8360-0F90B0ECFD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8F11E4-450E-48C8-8B8D-6D819174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D15272-0AEA-496B-AA43-29674225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034C-1D0B-4D65-ACD4-C5784DA71B2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3C66-A838-4C70-86AD-3D330B717A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6DA2-B441-41F8-9F0C-14C12815C95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079F-717E-442C-B9DB-0E29D9B3EA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8F7B-064D-4FA8-AC0E-3C1D6850B8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D023-0C87-41DD-A346-75DDBD4CE7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FAEE-6196-4FC1-A432-6B4FACC0529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5639-A13E-4339-9246-3017856D1A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B9B0-3DDD-43BE-A2FB-F3EFDF3D6E9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4733-9FB7-4B32-A28C-AB3DBE48F0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8D7B-D9BA-4904-ADFB-AE1DEAB4F39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3DD8-9B1F-4800-BC80-376BD738EB7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B54D-7E5F-4855-82BA-8B8A6B22E1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9EAB-FC37-476C-A98A-5C236D4E1C3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970E-EAE2-407C-B263-05573A70C85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37F0-0F12-4070-A0F8-9581B29EFF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A121-E55D-449C-A731-B9312139FBE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340E-9012-4496-98C8-E4B3FFBC55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94D7-365E-4BAC-8FD7-402AB0BA3C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2973-6A29-4213-A283-C97CDD50264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4101-C4E2-4D81-A3A4-5618834DE0B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0089-1F63-42E0-96AD-CEAEA4BE03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B131-DAEF-4EDC-91B3-EE92DCAC2A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FD81-5134-4BF4-B1CE-C40B886FD6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53504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商 是 一 位 数 的 除 法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5621040" cy="360"/>
            <a:chOff x="2284560" y="2448000"/>
            <a:chExt cx="562104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562104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56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68120" y="1744560"/>
            <a:ext cx="79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两位数的除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5214960" cy="525600"/>
            <a:chOff x="0" y="101520"/>
            <a:chExt cx="521496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59560" y="101520"/>
              <a:ext cx="49554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697320" cy="273600"/>
              <a:chOff x="0" y="196560"/>
              <a:chExt cx="69732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80800" y="348840"/>
                <a:ext cx="106200" cy="13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56840" y="281160"/>
                <a:ext cx="240480" cy="7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80800" y="213120"/>
                <a:ext cx="106200" cy="13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56840" y="206280"/>
                <a:ext cx="240480" cy="7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2320"/>
                <a:ext cx="618840" cy="6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3240"/>
                <a:ext cx="618840" cy="6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5280"/>
                <a:ext cx="618840" cy="6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618840" cy="6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"/>
          <p:cNvSpPr/>
          <p:nvPr/>
        </p:nvSpPr>
        <p:spPr>
          <a:xfrm>
            <a:off x="639720" y="111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，引入新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"/>
          <p:cNvSpPr/>
          <p:nvPr/>
        </p:nvSpPr>
        <p:spPr>
          <a:xfrm>
            <a:off x="642960" y="928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        ）里最大能填几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×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85          30×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        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1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0×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300        60×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        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4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"/>
          <p:cNvSpPr/>
          <p:nvPr/>
        </p:nvSpPr>
        <p:spPr>
          <a:xfrm>
            <a:off x="642960" y="2714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说说商是几，再计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图片 4" descr="40.jpg"/>
          <p:cNvPicPr/>
          <p:nvPr/>
        </p:nvPicPr>
        <p:blipFill>
          <a:blip r:embed="rId8"/>
          <a:stretch/>
        </p:blipFill>
        <p:spPr>
          <a:xfrm>
            <a:off x="3286080" y="4067280"/>
            <a:ext cx="1517760" cy="43344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5" descr="38.jpg"/>
          <p:cNvPicPr/>
          <p:nvPr/>
        </p:nvPicPr>
        <p:blipFill>
          <a:blip r:embed="rId9"/>
          <a:stretch/>
        </p:blipFill>
        <p:spPr>
          <a:xfrm>
            <a:off x="1071720" y="4067280"/>
            <a:ext cx="1244520" cy="43344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6" descr="39.jpg"/>
          <p:cNvPicPr/>
          <p:nvPr/>
        </p:nvPicPr>
        <p:blipFill>
          <a:blip r:embed="rId10"/>
          <a:stretch/>
        </p:blipFill>
        <p:spPr>
          <a:xfrm>
            <a:off x="5715000" y="4067280"/>
            <a:ext cx="1500120" cy="433440"/>
          </a:xfrm>
          <a:prstGeom prst="rect">
            <a:avLst/>
          </a:prstGeom>
          <a:ln w="0">
            <a:noFill/>
          </a:ln>
        </p:spPr>
      </p:pic>
      <p:sp>
        <p:nvSpPr>
          <p:cNvPr id="1015" name="TextBox 10"/>
          <p:cNvSpPr/>
          <p:nvPr/>
        </p:nvSpPr>
        <p:spPr>
          <a:xfrm>
            <a:off x="2286000" y="16430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10"/>
          <p:cNvSpPr/>
          <p:nvPr/>
        </p:nvSpPr>
        <p:spPr>
          <a:xfrm>
            <a:off x="5786280" y="1643040"/>
            <a:ext cx="500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10"/>
          <p:cNvSpPr/>
          <p:nvPr/>
        </p:nvSpPr>
        <p:spPr>
          <a:xfrm>
            <a:off x="2286000" y="221472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10"/>
          <p:cNvSpPr/>
          <p:nvPr/>
        </p:nvSpPr>
        <p:spPr>
          <a:xfrm>
            <a:off x="5786280" y="2214720"/>
            <a:ext cx="500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8"/>
          <p:cNvGrpSpPr/>
          <p:nvPr/>
        </p:nvGrpSpPr>
        <p:grpSpPr>
          <a:xfrm>
            <a:off x="1514520" y="3643200"/>
            <a:ext cx="914400" cy="1143360"/>
            <a:chOff x="1514520" y="3643200"/>
            <a:chExt cx="914400" cy="1143360"/>
          </a:xfrm>
        </p:grpSpPr>
        <p:sp>
          <p:nvSpPr>
            <p:cNvPr id="1020" name="TextBox 9"/>
            <p:cNvSpPr/>
            <p:nvPr/>
          </p:nvSpPr>
          <p:spPr>
            <a:xfrm>
              <a:off x="1514520" y="36432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1571400" y="4786200"/>
              <a:ext cx="714600" cy="360"/>
              <a:chOff x="1571400" y="4786200"/>
              <a:chExt cx="714600" cy="360"/>
            </a:xfrm>
          </p:grpSpPr>
          <p:sp>
            <p:nvSpPr>
              <p:cNvPr id="1022" name="直接连接符 10"/>
              <p:cNvSpPr/>
              <p:nvPr/>
            </p:nvSpPr>
            <p:spPr>
              <a:xfrm>
                <a:off x="1571400" y="4786200"/>
                <a:ext cx="714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 txBox="1"/>
              <p:nvPr/>
            </p:nvSpPr>
            <p:spPr>
              <a:xfrm>
                <a:off x="1571400" y="4786200"/>
                <a:ext cx="7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4" name="TextBox 21"/>
          <p:cNvSpPr/>
          <p:nvPr/>
        </p:nvSpPr>
        <p:spPr>
          <a:xfrm>
            <a:off x="3786120" y="3643200"/>
            <a:ext cx="14288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 7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786120" y="4786200"/>
            <a:ext cx="1071720" cy="360"/>
            <a:chOff x="3786120" y="4786200"/>
            <a:chExt cx="1071720" cy="360"/>
          </a:xfrm>
        </p:grpSpPr>
        <p:sp>
          <p:nvSpPr>
            <p:cNvPr id="1026" name="直接连接符 22"/>
            <p:cNvSpPr/>
            <p:nvPr/>
          </p:nvSpPr>
          <p:spPr>
            <a:xfrm>
              <a:off x="3786120" y="4786200"/>
              <a:ext cx="107172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>
              <a:off x="3786120" y="4786200"/>
              <a:ext cx="107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TextBox 21"/>
          <p:cNvSpPr/>
          <p:nvPr/>
        </p:nvSpPr>
        <p:spPr>
          <a:xfrm>
            <a:off x="6262560" y="3643200"/>
            <a:ext cx="10954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  0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215040" y="4786200"/>
            <a:ext cx="1071720" cy="360"/>
            <a:chOff x="6215040" y="4786200"/>
            <a:chExt cx="1071720" cy="360"/>
          </a:xfrm>
        </p:grpSpPr>
        <p:sp>
          <p:nvSpPr>
            <p:cNvPr id="1030" name="直接连接符 22"/>
            <p:cNvSpPr/>
            <p:nvPr/>
          </p:nvSpPr>
          <p:spPr>
            <a:xfrm>
              <a:off x="6215040" y="4786200"/>
              <a:ext cx="107172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6215040" y="4786200"/>
              <a:ext cx="107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组合 2"/>
          <p:cNvGrpSpPr/>
          <p:nvPr/>
        </p:nvGrpSpPr>
        <p:grpSpPr>
          <a:xfrm>
            <a:off x="0" y="101520"/>
            <a:ext cx="6162840" cy="525600"/>
            <a:chOff x="0" y="101520"/>
            <a:chExt cx="6162840" cy="525600"/>
          </a:xfrm>
        </p:grpSpPr>
        <p:pic>
          <p:nvPicPr>
            <p:cNvPr id="103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311760" y="101520"/>
              <a:ext cx="58510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4" name="组合 4"/>
            <p:cNvGrpSpPr/>
            <p:nvPr/>
          </p:nvGrpSpPr>
          <p:grpSpPr>
            <a:xfrm>
              <a:off x="0" y="196560"/>
              <a:ext cx="826200" cy="273960"/>
              <a:chOff x="0" y="196560"/>
              <a:chExt cx="826200" cy="273960"/>
            </a:xfrm>
          </p:grpSpPr>
          <p:sp>
            <p:nvSpPr>
              <p:cNvPr id="1035" name="椭圆 11"/>
              <p:cNvSpPr/>
              <p:nvPr/>
            </p:nvSpPr>
            <p:spPr>
              <a:xfrm rot="16200000">
                <a:off x="293040" y="345960"/>
                <a:ext cx="108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576720" y="269640"/>
                <a:ext cx="249480" cy="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7" name="椭圆 29"/>
              <p:cNvSpPr/>
              <p:nvPr/>
            </p:nvSpPr>
            <p:spPr>
              <a:xfrm rot="16200000">
                <a:off x="293040" y="207720"/>
                <a:ext cx="108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576720" y="204840"/>
                <a:ext cx="24948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79000"/>
                <a:ext cx="747720" cy="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62800"/>
                <a:ext cx="747720" cy="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2760"/>
                <a:ext cx="747720" cy="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747720" cy="57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43" name="组合 15"/>
          <p:cNvGrpSpPr/>
          <p:nvPr/>
        </p:nvGrpSpPr>
        <p:grpSpPr>
          <a:xfrm>
            <a:off x="1571760" y="4357800"/>
            <a:ext cx="1714320" cy="1643040"/>
            <a:chOff x="1571760" y="4357800"/>
            <a:chExt cx="1714320" cy="1643040"/>
          </a:xfrm>
        </p:grpSpPr>
        <p:pic>
          <p:nvPicPr>
            <p:cNvPr id="1044" name="图片 12" descr="33539.jpg"/>
            <p:cNvPicPr/>
            <p:nvPr/>
          </p:nvPicPr>
          <p:blipFill>
            <a:blip r:embed="rId8"/>
            <a:stretch/>
          </p:blipFill>
          <p:spPr>
            <a:xfrm>
              <a:off x="2390760" y="5000760"/>
              <a:ext cx="6746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圆角矩形标注 13"/>
            <p:cNvSpPr/>
            <p:nvPr/>
          </p:nvSpPr>
          <p:spPr>
            <a:xfrm>
              <a:off x="1571760" y="4357800"/>
              <a:ext cx="1714320" cy="928800"/>
            </a:xfrm>
            <a:prstGeom prst="wedgeRoundRectCallout">
              <a:avLst>
                <a:gd name="adj1" fmla="val -4574"/>
                <a:gd name="adj2" fmla="val 67300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Box 9"/>
            <p:cNvSpPr/>
            <p:nvPr/>
          </p:nvSpPr>
          <p:spPr>
            <a:xfrm>
              <a:off x="1571760" y="437184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把</a:t>
              </a:r>
              <a:r>
                <a:rPr b="0" lang="en-US" sz="2500" spc="-1" strike="noStrike">
                  <a:solidFill>
                    <a:srgbClr val="000000"/>
                  </a:solidFill>
                  <a:latin typeface="方正书宋简体"/>
                  <a:ea typeface="方正书宋简体"/>
                </a:rPr>
                <a:t>21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看作</a:t>
              </a:r>
              <a:r>
                <a:rPr b="0" lang="en-US" sz="2500" spc="-1" strike="noStrike">
                  <a:solidFill>
                    <a:srgbClr val="000000"/>
                  </a:solidFill>
                  <a:latin typeface="方正书宋简体"/>
                  <a:ea typeface="方正书宋简体"/>
                </a:rPr>
                <a:t>2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来试商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TextBox 1"/>
          <p:cNvSpPr/>
          <p:nvPr/>
        </p:nvSpPr>
        <p:spPr>
          <a:xfrm>
            <a:off x="860400" y="7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，学习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2" descr="41.jpg"/>
          <p:cNvPicPr/>
          <p:nvPr/>
        </p:nvPicPr>
        <p:blipFill>
          <a:blip r:embed="rId9"/>
          <a:stretch/>
        </p:blipFill>
        <p:spPr>
          <a:xfrm>
            <a:off x="1214280" y="858960"/>
            <a:ext cx="4743720" cy="192852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3"/>
          <p:cNvSpPr/>
          <p:nvPr/>
        </p:nvSpPr>
        <p:spPr>
          <a:xfrm>
            <a:off x="585720" y="2943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一个笔袋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元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元可以买多少个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5"/>
          <p:cNvSpPr/>
          <p:nvPr/>
        </p:nvSpPr>
        <p:spPr>
          <a:xfrm>
            <a:off x="2014560" y="3514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4÷21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图片 6" descr="43.jpg"/>
          <p:cNvPicPr/>
          <p:nvPr/>
        </p:nvPicPr>
        <p:blipFill>
          <a:blip r:embed="rId10"/>
          <a:stretch/>
        </p:blipFill>
        <p:spPr>
          <a:xfrm>
            <a:off x="3657600" y="4649760"/>
            <a:ext cx="1271520" cy="78408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7" descr="42.jpg"/>
          <p:cNvPicPr/>
          <p:nvPr/>
        </p:nvPicPr>
        <p:blipFill>
          <a:blip r:embed="rId11"/>
          <a:stretch/>
        </p:blipFill>
        <p:spPr>
          <a:xfrm>
            <a:off x="5229360" y="4649760"/>
            <a:ext cx="1271520" cy="1417680"/>
          </a:xfrm>
          <a:prstGeom prst="rect">
            <a:avLst/>
          </a:prstGeom>
          <a:ln w="0">
            <a:noFill/>
          </a:ln>
        </p:spPr>
      </p:pic>
      <p:sp>
        <p:nvSpPr>
          <p:cNvPr id="1053" name="TextBox 8"/>
          <p:cNvSpPr/>
          <p:nvPr/>
        </p:nvSpPr>
        <p:spPr>
          <a:xfrm>
            <a:off x="3552840" y="4605480"/>
            <a:ext cx="5713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方正书宋简体"/>
                <a:ea typeface="方正书宋简体"/>
              </a:rPr>
              <a:t>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16"/>
          <p:cNvSpPr/>
          <p:nvPr/>
        </p:nvSpPr>
        <p:spPr>
          <a:xfrm>
            <a:off x="3571920" y="3500280"/>
            <a:ext cx="57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方正书宋简体"/>
                <a:ea typeface="方正书宋简体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圆角矩形 17"/>
          <p:cNvSpPr/>
          <p:nvPr/>
        </p:nvSpPr>
        <p:spPr>
          <a:xfrm>
            <a:off x="3571920" y="4495680"/>
            <a:ext cx="142884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cc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八边形 7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Box 1"/>
          <p:cNvSpPr/>
          <p:nvPr/>
        </p:nvSpPr>
        <p:spPr>
          <a:xfrm>
            <a:off x="428760" y="716040"/>
            <a:ext cx="829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一个台灯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元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3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元可以买几个？还剩多少元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2"/>
          <p:cNvSpPr/>
          <p:nvPr/>
        </p:nvSpPr>
        <p:spPr>
          <a:xfrm>
            <a:off x="1643040" y="1444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30÷62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组合 12"/>
          <p:cNvGrpSpPr/>
          <p:nvPr/>
        </p:nvGrpSpPr>
        <p:grpSpPr>
          <a:xfrm>
            <a:off x="4929120" y="1501920"/>
            <a:ext cx="3929040" cy="1071360"/>
            <a:chOff x="4929120" y="1501920"/>
            <a:chExt cx="3929040" cy="1071360"/>
          </a:xfrm>
        </p:grpSpPr>
        <p:pic>
          <p:nvPicPr>
            <p:cNvPr id="1060" name="图片 4" descr="33539.jpg"/>
            <p:cNvPicPr/>
            <p:nvPr/>
          </p:nvPicPr>
          <p:blipFill>
            <a:blip r:embed="rId1"/>
            <a:stretch/>
          </p:blipFill>
          <p:spPr>
            <a:xfrm>
              <a:off x="8183520" y="1573200"/>
              <a:ext cx="6746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圆角矩形标注 7"/>
            <p:cNvSpPr/>
            <p:nvPr/>
          </p:nvSpPr>
          <p:spPr>
            <a:xfrm>
              <a:off x="4929120" y="1501920"/>
              <a:ext cx="3143160" cy="500040"/>
            </a:xfrm>
            <a:prstGeom prst="wedgeRoundRectCallout">
              <a:avLst>
                <a:gd name="adj1" fmla="val 54611"/>
                <a:gd name="adj2" fmla="val 8513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Box 8"/>
            <p:cNvSpPr/>
            <p:nvPr/>
          </p:nvSpPr>
          <p:spPr>
            <a:xfrm>
              <a:off x="4943160" y="15238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把</a:t>
              </a:r>
              <a:r>
                <a:rPr b="0" lang="en-US" sz="2500" spc="-1" strike="noStrike">
                  <a:solidFill>
                    <a:srgbClr val="000000"/>
                  </a:solidFill>
                  <a:latin typeface="方正书宋简体"/>
                  <a:ea typeface="方正书宋简体"/>
                </a:rPr>
                <a:t>62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看作多少来试商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3" name="图片 9" descr="50.jpg"/>
          <p:cNvPicPr/>
          <p:nvPr/>
        </p:nvPicPr>
        <p:blipFill>
          <a:blip r:embed="rId2"/>
          <a:stretch/>
        </p:blipFill>
        <p:spPr>
          <a:xfrm>
            <a:off x="5657760" y="2428920"/>
            <a:ext cx="1629000" cy="113976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11" descr="49.jpg"/>
          <p:cNvPicPr/>
          <p:nvPr/>
        </p:nvPicPr>
        <p:blipFill>
          <a:blip r:embed="rId3"/>
          <a:stretch/>
        </p:blipFill>
        <p:spPr>
          <a:xfrm>
            <a:off x="3240000" y="2435400"/>
            <a:ext cx="1617840" cy="1133280"/>
          </a:xfrm>
          <a:prstGeom prst="rect">
            <a:avLst/>
          </a:prstGeom>
          <a:ln w="0">
            <a:noFill/>
          </a:ln>
        </p:spPr>
      </p:pic>
      <p:sp>
        <p:nvSpPr>
          <p:cNvPr id="1065" name="圆角矩形 14"/>
          <p:cNvSpPr/>
          <p:nvPr/>
        </p:nvSpPr>
        <p:spPr>
          <a:xfrm>
            <a:off x="3000240" y="2286000"/>
            <a:ext cx="4643640" cy="2357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15"/>
          <p:cNvSpPr/>
          <p:nvPr/>
        </p:nvSpPr>
        <p:spPr>
          <a:xfrm>
            <a:off x="3154320" y="2401920"/>
            <a:ext cx="571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16"/>
          <p:cNvSpPr/>
          <p:nvPr/>
        </p:nvSpPr>
        <p:spPr>
          <a:xfrm>
            <a:off x="5572080" y="2417760"/>
            <a:ext cx="571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右箭头 17"/>
          <p:cNvSpPr/>
          <p:nvPr/>
        </p:nvSpPr>
        <p:spPr>
          <a:xfrm>
            <a:off x="4929120" y="3000240"/>
            <a:ext cx="642960" cy="2145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18"/>
          <p:cNvSpPr/>
          <p:nvPr/>
        </p:nvSpPr>
        <p:spPr>
          <a:xfrm>
            <a:off x="3728880" y="40719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商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7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大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Box 19"/>
          <p:cNvSpPr/>
          <p:nvPr/>
        </p:nvSpPr>
        <p:spPr>
          <a:xfrm>
            <a:off x="6229440" y="408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改商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6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25"/>
          <p:cNvGrpSpPr/>
          <p:nvPr/>
        </p:nvGrpSpPr>
        <p:grpSpPr>
          <a:xfrm>
            <a:off x="560160" y="4842000"/>
            <a:ext cx="3654720" cy="1073160"/>
            <a:chOff x="560160" y="4842000"/>
            <a:chExt cx="3654720" cy="1073160"/>
          </a:xfrm>
        </p:grpSpPr>
        <p:pic>
          <p:nvPicPr>
            <p:cNvPr id="1072" name="图片 22" descr="000.gif"/>
            <p:cNvPicPr/>
            <p:nvPr/>
          </p:nvPicPr>
          <p:blipFill>
            <a:blip r:embed="rId4"/>
            <a:stretch/>
          </p:blipFill>
          <p:spPr>
            <a:xfrm flipH="1">
              <a:off x="560160" y="4842000"/>
              <a:ext cx="928440" cy="102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TextBox 20"/>
            <p:cNvSpPr/>
            <p:nvPr/>
          </p:nvSpPr>
          <p:spPr>
            <a:xfrm>
              <a:off x="1643040" y="5000400"/>
              <a:ext cx="914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请把这道题做完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圆角矩形标注 21"/>
            <p:cNvSpPr/>
            <p:nvPr/>
          </p:nvSpPr>
          <p:spPr>
            <a:xfrm>
              <a:off x="1643040" y="5000400"/>
              <a:ext cx="2571840" cy="500040"/>
            </a:xfrm>
            <a:prstGeom prst="wedgeRoundRectCallout">
              <a:avLst>
                <a:gd name="adj1" fmla="val -57685"/>
                <a:gd name="adj2" fmla="val 44657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TextBox 23"/>
          <p:cNvSpPr/>
          <p:nvPr/>
        </p:nvSpPr>
        <p:spPr>
          <a:xfrm>
            <a:off x="6561000" y="3571920"/>
            <a:ext cx="571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  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Box 24"/>
          <p:cNvSpPr/>
          <p:nvPr/>
        </p:nvSpPr>
        <p:spPr>
          <a:xfrm>
            <a:off x="3143160" y="1414440"/>
            <a:ext cx="571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图片 2" descr=""/>
          <p:cNvPicPr/>
          <p:nvPr/>
        </p:nvPicPr>
        <p:blipFill>
          <a:blip r:embed="rId5"/>
          <a:stretch/>
        </p:blipFill>
        <p:spPr>
          <a:xfrm>
            <a:off x="560520" y="2573280"/>
            <a:ext cx="2009520" cy="743040"/>
          </a:xfrm>
          <a:prstGeom prst="rect">
            <a:avLst/>
          </a:prstGeom>
          <a:ln w="0">
            <a:noFill/>
          </a:ln>
        </p:spPr>
      </p:pic>
      <p:grpSp>
        <p:nvGrpSpPr>
          <p:cNvPr id="1078" name="组合 3"/>
          <p:cNvGrpSpPr/>
          <p:nvPr/>
        </p:nvGrpSpPr>
        <p:grpSpPr>
          <a:xfrm>
            <a:off x="816120" y="2244600"/>
            <a:ext cx="1411200" cy="1216080"/>
            <a:chOff x="816120" y="2244600"/>
            <a:chExt cx="1411200" cy="1216080"/>
          </a:xfrm>
        </p:grpSpPr>
        <p:sp>
          <p:nvSpPr>
            <p:cNvPr id="1079" name="TextBox 16"/>
            <p:cNvSpPr/>
            <p:nvPr/>
          </p:nvSpPr>
          <p:spPr>
            <a:xfrm>
              <a:off x="816120" y="2244600"/>
              <a:ext cx="91404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       </a:t>
              </a: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3  </a:t>
              </a: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7  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5  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1181160" y="3452040"/>
              <a:ext cx="1046160" cy="8640"/>
              <a:chOff x="1181160" y="3452040"/>
              <a:chExt cx="1046160" cy="8640"/>
            </a:xfrm>
          </p:grpSpPr>
          <p:sp>
            <p:nvSpPr>
              <p:cNvPr id="1081" name="直接连接符 10"/>
              <p:cNvSpPr/>
              <p:nvPr/>
            </p:nvSpPr>
            <p:spPr>
              <a:xfrm flipV="1">
                <a:off x="1181160" y="3452040"/>
                <a:ext cx="1046160" cy="8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 txBox="1"/>
              <p:nvPr/>
            </p:nvSpPr>
            <p:spPr>
              <a:xfrm rot="10800000">
                <a:off x="1181160" y="3452040"/>
                <a:ext cx="1046160" cy="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组合 34"/>
          <p:cNvGrpSpPr/>
          <p:nvPr/>
        </p:nvGrpSpPr>
        <p:grpSpPr>
          <a:xfrm>
            <a:off x="1276200" y="1636560"/>
            <a:ext cx="5705640" cy="2370240"/>
            <a:chOff x="1276200" y="1636560"/>
            <a:chExt cx="5705640" cy="2370240"/>
          </a:xfrm>
        </p:grpSpPr>
        <p:grpSp>
          <p:nvGrpSpPr>
            <p:cNvPr id="1084" name="组合 8"/>
            <p:cNvGrpSpPr/>
            <p:nvPr/>
          </p:nvGrpSpPr>
          <p:grpSpPr>
            <a:xfrm>
              <a:off x="1276200" y="1636560"/>
              <a:ext cx="5295960" cy="504000"/>
              <a:chOff x="1276200" y="1636560"/>
              <a:chExt cx="5295960" cy="504000"/>
            </a:xfrm>
          </p:grpSpPr>
          <p:pic>
            <p:nvPicPr>
              <p:cNvPr id="1085" name="图片 5" descr="44.jpg"/>
              <p:cNvPicPr/>
              <p:nvPr/>
            </p:nvPicPr>
            <p:blipFill>
              <a:blip r:embed="rId1"/>
              <a:stretch/>
            </p:blipFill>
            <p:spPr>
              <a:xfrm>
                <a:off x="1276200" y="1636560"/>
                <a:ext cx="1384920" cy="50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图片 6" descr="45.jpg"/>
              <p:cNvPicPr/>
              <p:nvPr/>
            </p:nvPicPr>
            <p:blipFill>
              <a:blip r:embed="rId2"/>
              <a:stretch/>
            </p:blipFill>
            <p:spPr>
              <a:xfrm>
                <a:off x="5175360" y="1636560"/>
                <a:ext cx="1396800" cy="50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7" name="组合 33"/>
            <p:cNvGrpSpPr/>
            <p:nvPr/>
          </p:nvGrpSpPr>
          <p:grpSpPr>
            <a:xfrm>
              <a:off x="1285560" y="3498840"/>
              <a:ext cx="5696280" cy="507960"/>
              <a:chOff x="1285560" y="3498840"/>
              <a:chExt cx="5696280" cy="507960"/>
            </a:xfrm>
          </p:grpSpPr>
          <p:pic>
            <p:nvPicPr>
              <p:cNvPr id="1088" name="图片 32" descr="46.jpg"/>
              <p:cNvPicPr/>
              <p:nvPr/>
            </p:nvPicPr>
            <p:blipFill>
              <a:blip r:embed="rId3"/>
              <a:stretch/>
            </p:blipFill>
            <p:spPr>
              <a:xfrm>
                <a:off x="1285560" y="3498840"/>
                <a:ext cx="1793880" cy="50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图片 31" descr="47.jpg"/>
              <p:cNvPicPr/>
              <p:nvPr/>
            </p:nvPicPr>
            <p:blipFill>
              <a:blip r:embed="rId4"/>
              <a:stretch/>
            </p:blipFill>
            <p:spPr>
              <a:xfrm>
                <a:off x="5187960" y="3502800"/>
                <a:ext cx="1793880" cy="50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90" name="组合 35"/>
          <p:cNvGrpSpPr/>
          <p:nvPr/>
        </p:nvGrpSpPr>
        <p:grpSpPr>
          <a:xfrm>
            <a:off x="1776240" y="1224000"/>
            <a:ext cx="966960" cy="1203480"/>
            <a:chOff x="1776240" y="1224000"/>
            <a:chExt cx="966960" cy="1203480"/>
          </a:xfrm>
        </p:grpSpPr>
        <p:sp>
          <p:nvSpPr>
            <p:cNvPr id="1091" name="TextBox 10"/>
            <p:cNvSpPr/>
            <p:nvPr/>
          </p:nvSpPr>
          <p:spPr>
            <a:xfrm>
              <a:off x="1828440" y="1224000"/>
              <a:ext cx="914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9  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1776240" y="2427120"/>
              <a:ext cx="929160" cy="360"/>
              <a:chOff x="1776240" y="2427120"/>
              <a:chExt cx="929160" cy="360"/>
            </a:xfrm>
          </p:grpSpPr>
          <p:sp>
            <p:nvSpPr>
              <p:cNvPr id="1093" name="直接连接符 20"/>
              <p:cNvSpPr/>
              <p:nvPr/>
            </p:nvSpPr>
            <p:spPr>
              <a:xfrm>
                <a:off x="1776240" y="2427120"/>
                <a:ext cx="9291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 txBox="1"/>
              <p:nvPr/>
            </p:nvSpPr>
            <p:spPr>
              <a:xfrm>
                <a:off x="1776240" y="2427120"/>
                <a:ext cx="929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5" name="组合 36"/>
          <p:cNvGrpSpPr/>
          <p:nvPr/>
        </p:nvGrpSpPr>
        <p:grpSpPr>
          <a:xfrm>
            <a:off x="5707080" y="1212840"/>
            <a:ext cx="936720" cy="1214640"/>
            <a:chOff x="5707080" y="1212840"/>
            <a:chExt cx="936720" cy="1214640"/>
          </a:xfrm>
        </p:grpSpPr>
        <p:sp>
          <p:nvSpPr>
            <p:cNvPr id="1096" name="TextBox 15"/>
            <p:cNvSpPr/>
            <p:nvPr/>
          </p:nvSpPr>
          <p:spPr>
            <a:xfrm>
              <a:off x="5729040" y="1212840"/>
              <a:ext cx="914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8  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5707080" y="2427120"/>
              <a:ext cx="928800" cy="360"/>
              <a:chOff x="5707080" y="2427120"/>
              <a:chExt cx="928800" cy="360"/>
            </a:xfrm>
          </p:grpSpPr>
          <p:sp>
            <p:nvSpPr>
              <p:cNvPr id="1098" name="直接连接符 23"/>
              <p:cNvSpPr/>
              <p:nvPr/>
            </p:nvSpPr>
            <p:spPr>
              <a:xfrm>
                <a:off x="5707080" y="2427120"/>
                <a:ext cx="928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 txBox="1"/>
              <p:nvPr/>
            </p:nvSpPr>
            <p:spPr>
              <a:xfrm>
                <a:off x="5707080" y="2427120"/>
                <a:ext cx="92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0" name="组合 37"/>
          <p:cNvGrpSpPr/>
          <p:nvPr/>
        </p:nvGrpSpPr>
        <p:grpSpPr>
          <a:xfrm>
            <a:off x="1627200" y="3070080"/>
            <a:ext cx="1527120" cy="1226160"/>
            <a:chOff x="1627200" y="3070080"/>
            <a:chExt cx="1527120" cy="1226160"/>
          </a:xfrm>
        </p:grpSpPr>
        <p:sp>
          <p:nvSpPr>
            <p:cNvPr id="1101" name="TextBox 16"/>
            <p:cNvSpPr/>
            <p:nvPr/>
          </p:nvSpPr>
          <p:spPr>
            <a:xfrm>
              <a:off x="1627200" y="3070080"/>
              <a:ext cx="914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       </a:t>
              </a: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3  </a:t>
              </a: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2  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1868400" y="4295880"/>
              <a:ext cx="1285920" cy="360"/>
              <a:chOff x="1868400" y="4295880"/>
              <a:chExt cx="1285920" cy="360"/>
            </a:xfrm>
          </p:grpSpPr>
          <p:sp>
            <p:nvSpPr>
              <p:cNvPr id="1103" name="直接连接符 24"/>
              <p:cNvSpPr/>
              <p:nvPr/>
            </p:nvSpPr>
            <p:spPr>
              <a:xfrm>
                <a:off x="1868400" y="4295880"/>
                <a:ext cx="1285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>
                <a:off x="1868400" y="4295880"/>
                <a:ext cx="128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5" name="组合 38"/>
          <p:cNvGrpSpPr/>
          <p:nvPr/>
        </p:nvGrpSpPr>
        <p:grpSpPr>
          <a:xfrm>
            <a:off x="5489640" y="3081240"/>
            <a:ext cx="1511280" cy="1215000"/>
            <a:chOff x="5489640" y="3081240"/>
            <a:chExt cx="1511280" cy="1215000"/>
          </a:xfrm>
        </p:grpSpPr>
        <p:sp>
          <p:nvSpPr>
            <p:cNvPr id="1106" name="TextBox 18"/>
            <p:cNvSpPr/>
            <p:nvPr/>
          </p:nvSpPr>
          <p:spPr>
            <a:xfrm>
              <a:off x="5489640" y="3081240"/>
              <a:ext cx="914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       </a:t>
              </a: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2   1  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3 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5715000" y="4295880"/>
              <a:ext cx="1285920" cy="360"/>
              <a:chOff x="5715000" y="4295880"/>
              <a:chExt cx="1285920" cy="360"/>
            </a:xfrm>
          </p:grpSpPr>
          <p:sp>
            <p:nvSpPr>
              <p:cNvPr id="1108" name="直接连接符 25"/>
              <p:cNvSpPr/>
              <p:nvPr/>
            </p:nvSpPr>
            <p:spPr>
              <a:xfrm>
                <a:off x="5715000" y="4295880"/>
                <a:ext cx="1285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 txBox="1"/>
              <p:nvPr/>
            </p:nvSpPr>
            <p:spPr>
              <a:xfrm>
                <a:off x="5715000" y="4295880"/>
                <a:ext cx="128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1" name="圆角矩形 5" descr=""/>
            <p:cNvPicPr/>
            <p:nvPr/>
          </p:nvPicPr>
          <p:blipFill>
            <a:blip r:embed="rId5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4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6" name="椭圆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1" name="Rectangle 64"/>
          <p:cNvSpPr/>
          <p:nvPr/>
        </p:nvSpPr>
        <p:spPr>
          <a:xfrm>
            <a:off x="530280" y="220680"/>
            <a:ext cx="2624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1008-DD67-43F2-9E12-42CC67D0638E}" type="slidenum">
              <a:rPr b="0" lang="zh-CN" sz="1200" spc="-1" strike="noStrike">
                <a:solidFill>
                  <a:srgbClr val="898989"/>
                </a:solidFill>
                <a:latin typeface="Cambr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图片 4" descr="64.jpg"/>
          <p:cNvPicPr/>
          <p:nvPr/>
        </p:nvPicPr>
        <p:blipFill>
          <a:blip r:embed="rId1"/>
          <a:stretch/>
        </p:blipFill>
        <p:spPr>
          <a:xfrm>
            <a:off x="4960800" y="2857680"/>
            <a:ext cx="1540080" cy="43164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5" descr="61.jpg"/>
          <p:cNvPicPr/>
          <p:nvPr/>
        </p:nvPicPr>
        <p:blipFill>
          <a:blip r:embed="rId2"/>
          <a:stretch/>
        </p:blipFill>
        <p:spPr>
          <a:xfrm>
            <a:off x="1071720" y="1214280"/>
            <a:ext cx="1188720" cy="43200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6" descr="62.jpg"/>
          <p:cNvPicPr/>
          <p:nvPr/>
        </p:nvPicPr>
        <p:blipFill>
          <a:blip r:embed="rId3"/>
          <a:stretch/>
        </p:blipFill>
        <p:spPr>
          <a:xfrm>
            <a:off x="4960800" y="1282680"/>
            <a:ext cx="1198800" cy="432000"/>
          </a:xfrm>
          <a:prstGeom prst="rect">
            <a:avLst/>
          </a:prstGeom>
          <a:ln w="0">
            <a:noFill/>
          </a:ln>
        </p:spPr>
      </p:pic>
      <p:pic>
        <p:nvPicPr>
          <p:cNvPr id="1126" name="图片 7" descr="63.jpg"/>
          <p:cNvPicPr/>
          <p:nvPr/>
        </p:nvPicPr>
        <p:blipFill>
          <a:blip r:embed="rId4"/>
          <a:stretch/>
        </p:blipFill>
        <p:spPr>
          <a:xfrm>
            <a:off x="1103400" y="2786040"/>
            <a:ext cx="1539720" cy="432000"/>
          </a:xfrm>
          <a:prstGeom prst="rect">
            <a:avLst/>
          </a:prstGeom>
          <a:ln w="0">
            <a:noFill/>
          </a:ln>
        </p:spPr>
      </p:pic>
      <p:grpSp>
        <p:nvGrpSpPr>
          <p:cNvPr id="1127" name="组合 8"/>
          <p:cNvGrpSpPr/>
          <p:nvPr/>
        </p:nvGrpSpPr>
        <p:grpSpPr>
          <a:xfrm>
            <a:off x="1514520" y="785880"/>
            <a:ext cx="914400" cy="1143360"/>
            <a:chOff x="1514520" y="785880"/>
            <a:chExt cx="914400" cy="1143360"/>
          </a:xfrm>
        </p:grpSpPr>
        <p:sp>
          <p:nvSpPr>
            <p:cNvPr id="1128" name="TextBox 9"/>
            <p:cNvSpPr/>
            <p:nvPr/>
          </p:nvSpPr>
          <p:spPr>
            <a:xfrm>
              <a:off x="1514520" y="7858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1571400" y="1928880"/>
              <a:ext cx="714600" cy="360"/>
              <a:chOff x="1571400" y="1928880"/>
              <a:chExt cx="714600" cy="360"/>
            </a:xfrm>
          </p:grpSpPr>
          <p:sp>
            <p:nvSpPr>
              <p:cNvPr id="1130" name="直接连接符 10"/>
              <p:cNvSpPr/>
              <p:nvPr/>
            </p:nvSpPr>
            <p:spPr>
              <a:xfrm>
                <a:off x="1571400" y="1928880"/>
                <a:ext cx="714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 txBox="1"/>
              <p:nvPr/>
            </p:nvSpPr>
            <p:spPr>
              <a:xfrm>
                <a:off x="1571400" y="1928880"/>
                <a:ext cx="7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组合 17"/>
          <p:cNvGrpSpPr/>
          <p:nvPr/>
        </p:nvGrpSpPr>
        <p:grpSpPr>
          <a:xfrm>
            <a:off x="5429160" y="857160"/>
            <a:ext cx="914400" cy="1143360"/>
            <a:chOff x="5429160" y="857160"/>
            <a:chExt cx="914400" cy="1143360"/>
          </a:xfrm>
        </p:grpSpPr>
        <p:sp>
          <p:nvSpPr>
            <p:cNvPr id="1133" name="TextBox 18"/>
            <p:cNvSpPr/>
            <p:nvPr/>
          </p:nvSpPr>
          <p:spPr>
            <a:xfrm>
              <a:off x="5429160" y="85716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5486040" y="2000160"/>
              <a:ext cx="714600" cy="360"/>
              <a:chOff x="5486040" y="2000160"/>
              <a:chExt cx="714600" cy="360"/>
            </a:xfrm>
          </p:grpSpPr>
          <p:sp>
            <p:nvSpPr>
              <p:cNvPr id="1135" name="直接连接符 19"/>
              <p:cNvSpPr/>
              <p:nvPr/>
            </p:nvSpPr>
            <p:spPr>
              <a:xfrm>
                <a:off x="5486040" y="2000160"/>
                <a:ext cx="714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 txBox="1"/>
              <p:nvPr/>
            </p:nvSpPr>
            <p:spPr>
              <a:xfrm>
                <a:off x="5486040" y="2000160"/>
                <a:ext cx="7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7" name="组合 20"/>
          <p:cNvGrpSpPr/>
          <p:nvPr/>
        </p:nvGrpSpPr>
        <p:grpSpPr>
          <a:xfrm>
            <a:off x="1571760" y="2357280"/>
            <a:ext cx="1071360" cy="1143360"/>
            <a:chOff x="1571760" y="2357280"/>
            <a:chExt cx="1071360" cy="1143360"/>
          </a:xfrm>
        </p:grpSpPr>
        <p:sp>
          <p:nvSpPr>
            <p:cNvPr id="1138" name="TextBox 21"/>
            <p:cNvSpPr/>
            <p:nvPr/>
          </p:nvSpPr>
          <p:spPr>
            <a:xfrm>
              <a:off x="1619280" y="2357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 3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1571760" y="3500280"/>
              <a:ext cx="1071360" cy="360"/>
              <a:chOff x="1571760" y="3500280"/>
              <a:chExt cx="1071360" cy="360"/>
            </a:xfrm>
          </p:grpSpPr>
          <p:sp>
            <p:nvSpPr>
              <p:cNvPr id="1140" name="直接连接符 22"/>
              <p:cNvSpPr/>
              <p:nvPr/>
            </p:nvSpPr>
            <p:spPr>
              <a:xfrm>
                <a:off x="1571760" y="3500280"/>
                <a:ext cx="1071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 txBox="1"/>
              <p:nvPr/>
            </p:nvSpPr>
            <p:spPr>
              <a:xfrm>
                <a:off x="1571760" y="3500280"/>
                <a:ext cx="1071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2" name="组合 30"/>
          <p:cNvGrpSpPr/>
          <p:nvPr/>
        </p:nvGrpSpPr>
        <p:grpSpPr>
          <a:xfrm>
            <a:off x="5429160" y="2428920"/>
            <a:ext cx="1071720" cy="1143360"/>
            <a:chOff x="5429160" y="2428920"/>
            <a:chExt cx="1071720" cy="1143360"/>
          </a:xfrm>
        </p:grpSpPr>
        <p:sp>
          <p:nvSpPr>
            <p:cNvPr id="1143" name="TextBox 31"/>
            <p:cNvSpPr/>
            <p:nvPr/>
          </p:nvSpPr>
          <p:spPr>
            <a:xfrm>
              <a:off x="5476680" y="2428920"/>
              <a:ext cx="914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 4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5429160" y="3571920"/>
              <a:ext cx="1071720" cy="360"/>
              <a:chOff x="5429160" y="3571920"/>
              <a:chExt cx="1071720" cy="360"/>
            </a:xfrm>
          </p:grpSpPr>
          <p:sp>
            <p:nvSpPr>
              <p:cNvPr id="1145" name="直接连接符 32"/>
              <p:cNvSpPr/>
              <p:nvPr/>
            </p:nvSpPr>
            <p:spPr>
              <a:xfrm>
                <a:off x="5429160" y="3571920"/>
                <a:ext cx="1071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 txBox="1"/>
              <p:nvPr/>
            </p:nvSpPr>
            <p:spPr>
              <a:xfrm>
                <a:off x="5429160" y="3571920"/>
                <a:ext cx="107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7" name="组合 39"/>
          <p:cNvGrpSpPr/>
          <p:nvPr/>
        </p:nvGrpSpPr>
        <p:grpSpPr>
          <a:xfrm>
            <a:off x="642960" y="3857760"/>
            <a:ext cx="7715160" cy="1215720"/>
            <a:chOff x="642960" y="3857760"/>
            <a:chExt cx="7715160" cy="1215720"/>
          </a:xfrm>
        </p:grpSpPr>
        <p:pic>
          <p:nvPicPr>
            <p:cNvPr id="1148" name="图片 38" descr="0000.gif"/>
            <p:cNvPicPr/>
            <p:nvPr/>
          </p:nvPicPr>
          <p:blipFill>
            <a:blip r:embed="rId5"/>
            <a:stretch/>
          </p:blipFill>
          <p:spPr>
            <a:xfrm>
              <a:off x="7500960" y="3857760"/>
              <a:ext cx="857160" cy="12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TextBox 36"/>
            <p:cNvSpPr/>
            <p:nvPr/>
          </p:nvSpPr>
          <p:spPr>
            <a:xfrm>
              <a:off x="785520" y="4014720"/>
              <a:ext cx="91440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仔细观察除数的个位数分别是几？你把它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看作多少来试商？你是怎样计算的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圆角矩形标注 37"/>
            <p:cNvSpPr/>
            <p:nvPr/>
          </p:nvSpPr>
          <p:spPr>
            <a:xfrm>
              <a:off x="642960" y="4000320"/>
              <a:ext cx="6272280" cy="856440"/>
            </a:xfrm>
            <a:prstGeom prst="wedgeRoundRectCallout">
              <a:avLst>
                <a:gd name="adj1" fmla="val 58129"/>
                <a:gd name="adj2" fmla="val -2546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TextBox 40"/>
          <p:cNvSpPr/>
          <p:nvPr/>
        </p:nvSpPr>
        <p:spPr>
          <a:xfrm>
            <a:off x="500040" y="50720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当除数的个位是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1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、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2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、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、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4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时，把除数的个位数舍去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看作接近除数的整十数来试商，试得的商和除数相乘，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果商大了，就要改商小一点的再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3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Box 32"/>
          <p:cNvSpPr/>
          <p:nvPr/>
        </p:nvSpPr>
        <p:spPr>
          <a:xfrm>
            <a:off x="277920" y="873000"/>
            <a:ext cx="844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除数是两位数的除法中，如果除数是一个接近整十的两位数，就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四舍五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法把除数看作与它接近的整十数试商，直接口算出商几。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四舍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法试商，商易大，需调小；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五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法试商，商易小，需调大。对被除数和除数同时估算，试商会更快、更准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6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99"/>
          <p:cNvSpPr/>
          <p:nvPr/>
        </p:nvSpPr>
        <p:spPr>
          <a:xfrm>
            <a:off x="441360" y="679320"/>
            <a:ext cx="81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农场养的猪每天要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饲料，一袋饲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，一袋饲料够喂几天？还剩多少千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文本框 2"/>
          <p:cNvSpPr/>
          <p:nvPr/>
        </p:nvSpPr>
        <p:spPr>
          <a:xfrm>
            <a:off x="957240" y="1757520"/>
            <a:ext cx="78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2 = 3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天）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·····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一袋饲料够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天，还剩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千克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7:42Z</dcterms:created>
  <dc:creator/>
  <dc:description/>
  <dc:language>en-US</dc:language>
  <cp:lastModifiedBy>万润仪器贸易公司</cp:lastModifiedBy>
  <dcterms:modified xsi:type="dcterms:W3CDTF">2020-08-21T08:59:29Z</dcterms:modified>
  <cp:revision>2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